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330-00E6-44AF-A000-0FE77FD9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1B7-D00D-4ADB-9011-8E375DBD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2FF-42D9-4880-A9C1-52A347B5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7EC-497C-4A68-8D22-36767899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100-BC10-432A-9590-E1DDA96A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337-FE37-4143-B187-F8E67001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39F-E864-4195-BD9D-1C9C463A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5AA-6F32-4B1E-820C-B197CF60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37B-6C81-4D00-A225-E0417C89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4F3-C1E0-495F-9EC7-06CE6996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641-4D91-4D90-9595-B06466AF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ADF2-59A3-4309-B273-4BE4D7E7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8CC7-662D-4F9C-97E2-FB16198A0C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179280" y="177336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6:01Z</dcterms:modified>
  <cp:revision>685</cp:revision>
  <dc:subject/>
  <dc:title>Diapositiva 1</dc:title>
</cp:coreProperties>
</file>